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C6A7-E102-4F3B-8543-34C624BC0E9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m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use the symbols of algebra,                    we could write the domain 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at look like a foreign langu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ansla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se the symbols of algebra,                    we could write the domain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that look like a foreign langu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transla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urly brac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tell us we have a set of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urly bra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ell us we have a set of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x reminds 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our set contains x-val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x reminds 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our set contains x-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lon say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on say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ymbol that looks like an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r a c sticking its tongue ou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ys, belongs to . .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ymbol that looks like an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a c sticking its tongue o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s, belongs to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 cursive, or script,                             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short for the set of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cursive, or script,                             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short for the set of re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, the set of real numbers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we read it, “The s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belongs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, the set of real number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read it, “The 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belong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we put 11 in for x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was 1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put 11 in for x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was 1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17 belongs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nge of the functio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any number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ould not get for y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ting some number in for x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17 belongs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nge of the func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any number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uld not get for y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some number in for x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ay that the range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nction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t of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 that the rang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re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we study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earn terms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put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put val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we study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learn terms l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t of y, such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belongs to R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t of real numbers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thi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y, such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belongs to 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real number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thi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and ran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any real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ot always true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mathematic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t to study a function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mited dom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main and r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any re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not always true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mathematic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t to study a func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mited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n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ight think 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x is between –3 and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uld be writte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n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ight think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x is between –3 and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uld be writte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s the domain or ran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the function it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functio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x be any real numb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s the domain or ran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the function it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functio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x be any real numb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re 3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happen if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would have to                  divide by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never                            divide by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3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happen if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we would have to                  divide by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never                            divide by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from the doma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we would have to elimi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would b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from the doma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would have to elim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main would b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ould not belong to the rang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could never be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could not belong to the rang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think of a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could never be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number we can divide 1 by to get 0, so 0 cannot            belong to the r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y to be 0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x have to 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nge of the function i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number we can divide 1 by to get 0, so 0 cannot            belong to the r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y to be 0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x have to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nge of the function i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limit the domain of function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common rules of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le 1:  You can’t divide by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limit the domain of function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common rules of alge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 1:  You can’t divide by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Rule 1:  You can’t divide by 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ve already seen an 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Rule 1:  You can’t divide by 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ve already seen a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put values are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put into the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the x-val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put values are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come out of the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the y-val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values are th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put into the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x-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values are th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come out of the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y-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’t take the square root        of a negativ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 about Rule 2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functio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doma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’t take the square root        of a negativ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about Rule 2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he func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omai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y when x is 16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quare root of 16 is 4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y is 4 when x is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 belongs to the domai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4 belongs to the r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y when x is 16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16 is 4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y is 4 when x is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belongs to the dom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4 belongs to the r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what is y when                             x is –16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number do you square           to get –16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you say –4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what is y when                             x is –16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number do you square           to get –16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you say –4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 –1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real number we can square to get a negativ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no negative number can belong        to the domain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 –1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real number we can square to get a negativ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 negative number can belong        to the domai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domain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est number for which     we can find a square root is 0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e domai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st number for which     we can find a square root is 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domain of each fun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domain of each 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functio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choose any value                   we want for x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we choose 1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put 11 into the function      by substituting for x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he functio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choose any value                   we want for 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we choose 1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put 11 into the function      by substituting for 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wrote down every            number we could put in for x       and still have the function         make sens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ould have the set of numbers we call the domain                          of the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wrote down every            number we could put in for x       and still have the function         make sens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ould have the set of numbers we call the domain                          of the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is the set                   that contains all the                    input values                                   for a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main is the set                   that contains all the                    input values                                   for a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ur fun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any number we could                        not put in for x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r fun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any number we could                        not put in for x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we could substitute                             any real number                                        for x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ay the domain                                             of the function                                     is the set of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could substitute                             any real number                                        for x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 the domain                                             of the function                                     is the set of re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77F0-6B99-463C-AB1A-7D0DAD28C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81E9-EDFA-4262-9C02-34CA5CD6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FD76-A882-40BF-A5E2-103473AFE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DACD-45DB-4BED-BE9E-82278A77A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79C5-2F83-469F-B172-94A806E2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650B-B3A9-4F53-B5C1-5CBE9F28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87DE-F9DC-4C80-A5BF-86BDEB41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2A14-BC35-4584-B12A-C55B7F7B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56EF-7C34-4C2C-B5E6-6B832834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6EAD-24FF-47F5-A789-DE601415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DD2A-75AC-493E-B5F9-EDD8FD89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5278-F91D-4857-AC31-F495DF18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d2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11D7-922A-4956-9626-FBBF7ADF7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3297240" y="380880"/>
            <a:ext cx="254808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omai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3792600" y="2211480"/>
            <a:ext cx="15573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3733920" y="4040280"/>
            <a:ext cx="2547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ang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use the symbols of algebra,                    we could write the domain 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4"/>
              <p:cNvSpPr txBox="1"/>
              <p:nvPr/>
            </p:nvSpPr>
            <p:spPr>
              <a:xfrm>
                <a:off x="2514600" y="2438280"/>
                <a:ext cx="412740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3" name="Text Box 5"/>
          <p:cNvSpPr/>
          <p:nvPr/>
        </p:nvSpPr>
        <p:spPr>
          <a:xfrm>
            <a:off x="0" y="40384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es that look like a foreign languag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0" y="4052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’s translat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urly brace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0" y="1187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ust tell us we have a set of numb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6"/>
              <p:cNvSpPr txBox="1"/>
              <p:nvPr/>
            </p:nvSpPr>
            <p:spPr>
              <a:xfrm>
                <a:off x="2519280" y="3247920"/>
                <a:ext cx="4105440" cy="11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16" presetSubtype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reminds 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0" y="1143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our set contains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valu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6"/>
              <p:cNvSpPr txBox="1"/>
              <p:nvPr/>
            </p:nvSpPr>
            <p:spPr>
              <a:xfrm>
                <a:off x="2514600" y="3247920"/>
                <a:ext cx="4062240" cy="11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16" presetSubtype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olon say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0" y="1143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6"/>
              <p:cNvSpPr txBox="1"/>
              <p:nvPr/>
            </p:nvSpPr>
            <p:spPr>
              <a:xfrm>
                <a:off x="2514600" y="3247920"/>
                <a:ext cx="4019400" cy="11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entr" presetID="16" presetSubtype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8" name="Object 6"/>
              <p:cNvSpPr txBox="1"/>
              <p:nvPr/>
            </p:nvSpPr>
            <p:spPr>
              <a:xfrm>
                <a:off x="2514600" y="3276720"/>
                <a:ext cx="416880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9" name="Text Box 2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ymbol that looks like a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0" y="1143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or a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sticking its tongue out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0" y="19191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ays,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elongs to . .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4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cursive, or script,                      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2482920" y="3276720"/>
                <a:ext cx="412596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Text Box 5"/>
          <p:cNvSpPr/>
          <p:nvPr/>
        </p:nvSpPr>
        <p:spPr>
          <a:xfrm>
            <a:off x="0" y="19191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short for the set of real numb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16" presetSubtype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7" name="Object 5"/>
              <p:cNvSpPr txBox="1"/>
              <p:nvPr/>
            </p:nvSpPr>
            <p:spPr>
              <a:xfrm>
                <a:off x="2575080" y="3400560"/>
                <a:ext cx="435924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Text Box 13"/>
          <p:cNvSpPr/>
          <p:nvPr/>
        </p:nvSpPr>
        <p:spPr>
          <a:xfrm>
            <a:off x="0" y="20732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, the set of real numbers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we read it, “The s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0" y="122076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7"/>
              <p:cNvSpPr txBox="1"/>
              <p:nvPr/>
            </p:nvSpPr>
            <p:spPr>
              <a:xfrm>
                <a:off x="3817800" y="3743280"/>
                <a:ext cx="2127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Text Box 11"/>
          <p:cNvSpPr/>
          <p:nvPr/>
        </p:nvSpPr>
        <p:spPr>
          <a:xfrm>
            <a:off x="1676520" y="122076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4419720" y="121932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belongs 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15"/>
              <p:cNvSpPr txBox="1"/>
              <p:nvPr/>
            </p:nvSpPr>
            <p:spPr>
              <a:xfrm>
                <a:off x="3065400" y="3789360"/>
                <a:ext cx="5745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6"/>
              <p:cNvSpPr txBox="1"/>
              <p:nvPr/>
            </p:nvSpPr>
            <p:spPr>
              <a:xfrm>
                <a:off x="5595840" y="3611520"/>
                <a:ext cx="83052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7"/>
              <p:cNvSpPr txBox="1"/>
              <p:nvPr/>
            </p:nvSpPr>
            <p:spPr>
              <a:xfrm>
                <a:off x="4114800" y="3768840"/>
                <a:ext cx="12985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8" name="Object 5"/>
              <p:cNvSpPr txBox="1"/>
              <p:nvPr/>
            </p:nvSpPr>
            <p:spPr>
              <a:xfrm>
                <a:off x="3873600" y="3600360"/>
                <a:ext cx="1536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7"/>
              <p:cNvSpPr txBox="1"/>
              <p:nvPr/>
            </p:nvSpPr>
            <p:spPr>
              <a:xfrm>
                <a:off x="3270240" y="2558880"/>
                <a:ext cx="20574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Text Box 8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we put 11 in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0" y="1157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was 17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237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17 belongs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0" y="1157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f the functio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0" y="35053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there any number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0" y="4357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could not get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8"/>
              <p:cNvSpPr txBox="1"/>
              <p:nvPr/>
            </p:nvSpPr>
            <p:spPr>
              <a:xfrm>
                <a:off x="3282840" y="2362320"/>
                <a:ext cx="2578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Text Box 9"/>
          <p:cNvSpPr/>
          <p:nvPr/>
        </p:nvSpPr>
        <p:spPr>
          <a:xfrm>
            <a:off x="0" y="5272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utting some number in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71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0" y="60948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No!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0" y="35053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say that the range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0" y="4357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unction 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3359160" y="2362320"/>
                <a:ext cx="2425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Text Box 7"/>
          <p:cNvSpPr/>
          <p:nvPr/>
        </p:nvSpPr>
        <p:spPr>
          <a:xfrm>
            <a:off x="0" y="5272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et of real numb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e study func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0" y="10684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learn terms lik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0" y="1982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input valu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0" y="2897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0" y="3811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output valu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0" y="35053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et o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such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0" y="4357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longs to R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0" y="5272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et of real numbers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ad this: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9"/>
              <p:cNvSpPr txBox="1"/>
              <p:nvPr/>
            </p:nvSpPr>
            <p:spPr>
              <a:xfrm>
                <a:off x="2433600" y="1649520"/>
                <a:ext cx="427680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:</m:t>
                        </m:r>
                        <m:r>
                          <m:t xml:space="preserve">y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domain and rang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2071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an be any real numb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s not always true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0" y="2909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metimes mathematicia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0" y="37479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nt to study a function ov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0" y="4586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limited dom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72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unctio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might think abou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0" y="2909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between –3 and 3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0" y="3900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could be written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8"/>
              <p:cNvSpPr txBox="1"/>
              <p:nvPr/>
            </p:nvSpPr>
            <p:spPr>
              <a:xfrm>
                <a:off x="3340080" y="2133720"/>
                <a:ext cx="24638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9"/>
              <p:cNvSpPr txBox="1"/>
              <p:nvPr/>
            </p:nvSpPr>
            <p:spPr>
              <a:xfrm>
                <a:off x="1638360" y="5092560"/>
                <a:ext cx="60451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6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mits the domain or range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metimes the function itsel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0" y="3900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is function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6"/>
              <p:cNvSpPr txBox="1"/>
              <p:nvPr/>
            </p:nvSpPr>
            <p:spPr>
              <a:xfrm>
                <a:off x="3505320" y="2374920"/>
                <a:ext cx="213336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0" name="Text Box 8"/>
          <p:cNvSpPr/>
          <p:nvPr/>
        </p:nvSpPr>
        <p:spPr>
          <a:xfrm>
            <a:off x="0" y="4738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be any real numb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re 3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would happen i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0" y="39006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we would have to                  divide by 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5"/>
              <p:cNvSpPr txBox="1"/>
              <p:nvPr/>
            </p:nvSpPr>
            <p:spPr>
              <a:xfrm>
                <a:off x="3505320" y="2374920"/>
                <a:ext cx="213336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" name="Text Box 7"/>
          <p:cNvSpPr/>
          <p:nvPr/>
        </p:nvSpPr>
        <p:spPr>
          <a:xfrm>
            <a:off x="0" y="38862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can never                            divide by 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 from the domain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we would have to elimin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5"/>
              <p:cNvSpPr txBox="1"/>
              <p:nvPr/>
            </p:nvSpPr>
            <p:spPr>
              <a:xfrm>
                <a:off x="3505320" y="2374920"/>
                <a:ext cx="213336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" name="Text Box 6"/>
          <p:cNvSpPr/>
          <p:nvPr/>
        </p:nvSpPr>
        <p:spPr>
          <a:xfrm>
            <a:off x="0" y="3886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domain would b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7"/>
              <p:cNvSpPr txBox="1"/>
              <p:nvPr/>
            </p:nvSpPr>
            <p:spPr>
              <a:xfrm>
                <a:off x="3416400" y="5105520"/>
                <a:ext cx="23112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4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4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428" nodeType="afterEffect" fill="hold" presetClass="entr" presetID="17" presetSubtype="10">
                                  <p:stCondLst>
                                    <p:cond delay="6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3300"/>
                            </p:stCondLst>
                            <p:childTnLst>
                              <p:par>
                                <p:cTn id="4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0" y="123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ch could not belong to the range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an you think of a numb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3505320" y="2984400"/>
                <a:ext cx="213336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Text Box 5"/>
          <p:cNvSpPr/>
          <p:nvPr/>
        </p:nvSpPr>
        <p:spPr>
          <a:xfrm>
            <a:off x="0" y="4559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could never be 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0" y="4572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3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3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3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7"/>
          <p:cNvSpPr/>
          <p:nvPr/>
        </p:nvSpPr>
        <p:spPr>
          <a:xfrm>
            <a:off x="0" y="400680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 is no number we can divide 1 by to get 0, so 0 cannot            belong to the rang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o be 0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woul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have to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3505320" y="2362320"/>
                <a:ext cx="2133360" cy="13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4" name="Text Box 5"/>
          <p:cNvSpPr/>
          <p:nvPr/>
        </p:nvSpPr>
        <p:spPr>
          <a:xfrm>
            <a:off x="0" y="40035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range of the function i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6"/>
              <p:cNvSpPr txBox="1"/>
              <p:nvPr/>
            </p:nvSpPr>
            <p:spPr>
              <a:xfrm>
                <a:off x="3365640" y="5410080"/>
                <a:ext cx="241272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:</m:t>
                        </m:r>
                        <m:r>
                          <m:t xml:space="preserve">y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0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0" y="123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limit the domain of functions ar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most common rules of algeb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762120" y="2743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ule 1:  You can’t divide by 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11"/>
          <p:cNvGrpSpPr/>
          <p:nvPr/>
        </p:nvGrpSpPr>
        <p:grpSpPr>
          <a:xfrm>
            <a:off x="762120" y="3625920"/>
            <a:ext cx="9144000" cy="2288160"/>
            <a:chOff x="762120" y="3625920"/>
            <a:chExt cx="9144000" cy="2288160"/>
          </a:xfrm>
        </p:grpSpPr>
        <p:sp>
          <p:nvSpPr>
            <p:cNvPr id="201" name="Text Box 8"/>
            <p:cNvSpPr/>
            <p:nvPr/>
          </p:nvSpPr>
          <p:spPr>
            <a:xfrm>
              <a:off x="762120" y="3625920"/>
              <a:ext cx="914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Rule 2:  You can’t take the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9"/>
            <p:cNvSpPr/>
            <p:nvPr/>
          </p:nvSpPr>
          <p:spPr>
            <a:xfrm>
              <a:off x="2895480" y="4357800"/>
              <a:ext cx="62485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square root of a            negative number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1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10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Rule 1:  You can’t divide by 0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’ve already seen an examp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Input values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the 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0" y="10684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put into the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0" y="1982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are 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valu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0" y="2984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Output values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the 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3900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come out of the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0" y="4815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are 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valu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0" y="123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can’t take the square root        of a negative numb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nk about Rule 2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0" y="2863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n the functio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8"/>
              <p:cNvSpPr txBox="1"/>
              <p:nvPr/>
            </p:nvSpPr>
            <p:spPr>
              <a:xfrm>
                <a:off x="3638520" y="3778200"/>
                <a:ext cx="18669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Text Box 9"/>
          <p:cNvSpPr/>
          <p:nvPr/>
        </p:nvSpPr>
        <p:spPr>
          <a:xfrm>
            <a:off x="0" y="45100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he domai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0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3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16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0" y="2863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quare root of 16 is 4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5"/>
              <p:cNvSpPr txBox="1"/>
              <p:nvPr/>
            </p:nvSpPr>
            <p:spPr>
              <a:xfrm>
                <a:off x="3708360" y="1447920"/>
                <a:ext cx="1727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6" name="Text Box 6"/>
          <p:cNvSpPr/>
          <p:nvPr/>
        </p:nvSpPr>
        <p:spPr>
          <a:xfrm>
            <a:off x="0" y="3733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4 whe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1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7"/>
              <p:cNvSpPr txBox="1"/>
              <p:nvPr/>
            </p:nvSpPr>
            <p:spPr>
              <a:xfrm>
                <a:off x="3733920" y="1447920"/>
                <a:ext cx="1955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8" name="Text Box 8"/>
          <p:cNvSpPr/>
          <p:nvPr/>
        </p:nvSpPr>
        <p:spPr>
          <a:xfrm>
            <a:off x="0" y="4495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6 belongs to the domai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0" y="5272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4 belongs to the rang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0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7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1" nodeType="afterEffect" fill="hold" presetClass="entr" presetID="18" presetSubtype="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4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5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7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what is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when                            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–16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0" y="28638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number do you square           to get –16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3708360" y="2133720"/>
                <a:ext cx="1727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6"/>
              <p:cNvSpPr txBox="1"/>
              <p:nvPr/>
            </p:nvSpPr>
            <p:spPr>
              <a:xfrm>
                <a:off x="3695760" y="2133720"/>
                <a:ext cx="2400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5" name="Text Box 7"/>
          <p:cNvSpPr/>
          <p:nvPr/>
        </p:nvSpPr>
        <p:spPr>
          <a:xfrm>
            <a:off x="0" y="4495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id you say –4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4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3"/>
          <p:cNvSpPr/>
          <p:nvPr/>
        </p:nvSpPr>
        <p:spPr>
          <a:xfrm>
            <a:off x="0" y="1447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t  –16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5"/>
              <p:cNvSpPr txBox="1"/>
              <p:nvPr/>
            </p:nvSpPr>
            <p:spPr>
              <a:xfrm>
                <a:off x="1682640" y="609480"/>
                <a:ext cx="5778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Text Box 6"/>
          <p:cNvSpPr/>
          <p:nvPr/>
        </p:nvSpPr>
        <p:spPr>
          <a:xfrm>
            <a:off x="0" y="22096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 is no real number we can square to get a negative numb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0" y="3809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no negative number can belong        to the domain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8"/>
              <p:cNvSpPr txBox="1"/>
              <p:nvPr/>
            </p:nvSpPr>
            <p:spPr>
              <a:xfrm>
                <a:off x="3733920" y="5562720"/>
                <a:ext cx="172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0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0" y="19051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the domain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0" y="3657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6"/>
              <p:cNvSpPr txBox="1"/>
              <p:nvPr/>
            </p:nvSpPr>
            <p:spPr>
              <a:xfrm>
                <a:off x="3708360" y="2971800"/>
                <a:ext cx="1727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6" name="Text Box 7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mallest number for which     we can find a square root is 0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8"/>
              <p:cNvSpPr txBox="1"/>
              <p:nvPr/>
            </p:nvSpPr>
            <p:spPr>
              <a:xfrm>
                <a:off x="3384720" y="4648320"/>
                <a:ext cx="23238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0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8" nodeType="afterEffect" fill="hold" presetClass="entr" presetID="1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ind the domain of each functio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7"/>
              <p:cNvSpPr txBox="1"/>
              <p:nvPr/>
            </p:nvSpPr>
            <p:spPr>
              <a:xfrm>
                <a:off x="457200" y="1523880"/>
                <a:ext cx="298440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8"/>
              <p:cNvSpPr txBox="1"/>
              <p:nvPr/>
            </p:nvSpPr>
            <p:spPr>
              <a:xfrm>
                <a:off x="457200" y="3276720"/>
                <a:ext cx="361944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9"/>
              <p:cNvSpPr txBox="1"/>
              <p:nvPr/>
            </p:nvSpPr>
            <p:spPr>
              <a:xfrm>
                <a:off x="419040" y="4178160"/>
                <a:ext cx="34671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0"/>
              <p:cNvSpPr txBox="1"/>
              <p:nvPr/>
            </p:nvSpPr>
            <p:spPr>
              <a:xfrm>
                <a:off x="457200" y="4965840"/>
                <a:ext cx="36576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0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6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60948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swer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3"/>
              <p:cNvSpPr txBox="1"/>
              <p:nvPr/>
            </p:nvSpPr>
            <p:spPr>
              <a:xfrm>
                <a:off x="1143000" y="1778040"/>
                <a:ext cx="35053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7"/>
              <p:cNvSpPr txBox="1"/>
              <p:nvPr/>
            </p:nvSpPr>
            <p:spPr>
              <a:xfrm>
                <a:off x="1098720" y="2819520"/>
                <a:ext cx="33778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8"/>
              <p:cNvSpPr txBox="1"/>
              <p:nvPr/>
            </p:nvSpPr>
            <p:spPr>
              <a:xfrm>
                <a:off x="1095480" y="4711680"/>
                <a:ext cx="33782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9"/>
              <p:cNvSpPr txBox="1"/>
              <p:nvPr/>
            </p:nvSpPr>
            <p:spPr>
              <a:xfrm>
                <a:off x="1101600" y="3797280"/>
                <a:ext cx="35560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0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6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n the function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5"/>
              <p:cNvSpPr txBox="1"/>
              <p:nvPr/>
            </p:nvSpPr>
            <p:spPr>
              <a:xfrm>
                <a:off x="3289320" y="1068480"/>
                <a:ext cx="2565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Text Box 6"/>
          <p:cNvSpPr/>
          <p:nvPr/>
        </p:nvSpPr>
        <p:spPr>
          <a:xfrm>
            <a:off x="0" y="16444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can choose any value                   we want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0" y="3811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ppose we choose 11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0" y="4724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can put 11 into the function      by substituting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1" name="Object 10"/>
              <p:cNvSpPr txBox="1"/>
              <p:nvPr/>
            </p:nvSpPr>
            <p:spPr>
              <a:xfrm>
                <a:off x="4373640" y="3416400"/>
                <a:ext cx="19047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8"/>
              <p:cNvSpPr txBox="1"/>
              <p:nvPr/>
            </p:nvSpPr>
            <p:spPr>
              <a:xfrm>
                <a:off x="4362480" y="3416400"/>
                <a:ext cx="193032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7"/>
              <p:cNvSpPr txBox="1"/>
              <p:nvPr/>
            </p:nvSpPr>
            <p:spPr>
              <a:xfrm>
                <a:off x="4373640" y="3429000"/>
                <a:ext cx="27306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3"/>
              <p:cNvSpPr txBox="1"/>
              <p:nvPr/>
            </p:nvSpPr>
            <p:spPr>
              <a:xfrm>
                <a:off x="3168720" y="3606840"/>
                <a:ext cx="1104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11"/>
              <p:cNvSpPr txBox="1"/>
              <p:nvPr/>
            </p:nvSpPr>
            <p:spPr>
              <a:xfrm>
                <a:off x="4464000" y="3416400"/>
                <a:ext cx="7365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12"/>
              <p:cNvSpPr txBox="1"/>
              <p:nvPr/>
            </p:nvSpPr>
            <p:spPr>
              <a:xfrm>
                <a:off x="2438280" y="2057400"/>
                <a:ext cx="26798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2" dur="1" fill="hold"/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0" y="1522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we wrote down every            number we could put in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ill have the function         make sens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0" y="312264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would have the set of numbers we call 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                of the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0" y="1522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the set                   that contains all the                    input values                                   for a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our functio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3"/>
              <p:cNvSpPr txBox="1"/>
              <p:nvPr/>
            </p:nvSpPr>
            <p:spPr>
              <a:xfrm>
                <a:off x="3289320" y="1068480"/>
                <a:ext cx="2565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Text Box 4"/>
          <p:cNvSpPr/>
          <p:nvPr/>
        </p:nvSpPr>
        <p:spPr>
          <a:xfrm>
            <a:off x="0" y="17208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there any number we could                        not put in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0" y="3429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92880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cause we could substitute                             any real number                                       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0" y="327492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say the domain                                             of the function                                     is the set of real numb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06:11:46Z</dcterms:created>
  <dc:creator>Bob Greer</dc:creator>
  <dc:description/>
  <dc:language>en-US</dc:language>
  <cp:lastModifiedBy>LEGION</cp:lastModifiedBy>
  <dcterms:modified xsi:type="dcterms:W3CDTF">2017-07-06T06:33:07Z</dcterms:modified>
  <cp:revision>4</cp:revision>
  <dc:subject/>
  <dc:title>PowerPoint Presentation</dc:title>
</cp:coreProperties>
</file>